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A6F5-E5FE-4944-A5BC-3186AB47101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DADA-ED6F-4660-98DA-9294C92E5A8D}" type="datetime">
              <a:rPr b="0" lang="en-US" sz="1200" spc="-1" strike="noStrike">
                <a:solidFill>
                  <a:srgbClr val="000000"/>
                </a:solidFill>
                <a:latin typeface="Garamond"/>
              </a:rPr>
              <a:t>07/29/26</a:t>
            </a:fld>
            <a:r>
              <a:rPr b="0" lang="en-US" sz="1200" spc="-1" strike="noStrike">
                <a:solidFill>
                  <a:srgbClr val="000000"/>
                </a:solidFill>
                <a:latin typeface="Garamond"/>
              </a:rPr>
              <a:t> </a:t>
            </a:r>
            <a:fld id="{FBE2EED0-8C1B-4D41-AB7A-0376308F9982}" type="datetime10">
              <a:rPr b="0" lang="en-US" sz="1200" spc="-1" strike="noStrike">
                <a:solidFill>
                  <a:srgbClr val="000000"/>
                </a:solidFill>
                <a:latin typeface="Garamond"/>
              </a:rPr>
              <a:t>02:12</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A410-08A7-4D3B-9DDD-39E840129287}"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56B27-6C5A-4BE7-B6D0-901339996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599C5-5546-461C-BBE9-99530BF1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3E31066-EA76-4D2C-B98B-DBC7DE2CFC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D14FFF-CCAB-4C22-B55D-0341C8D3319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3C98A5-6DE2-461B-9CB4-708D303E7D9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1F918F7-99AE-4678-9156-17B6684478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B50EB0-1916-40FB-B272-190D55A61D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F775A4-A9DD-4CA5-B0A8-A0CED4FF85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C6A12DC-01B8-43F5-B28D-84EC10B4B0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D059969-EFD4-4CE6-B1A2-C1EEF54BB7D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482A271-6533-4D5A-9981-9447ADDC3AA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C6ECA-50C0-41E3-A532-FB4BB2F5B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B7C2D-67E4-4496-B52B-895E89AF6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D5C02-E02E-4F70-A02E-2E0754667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34CF5-B79A-4C6C-AADA-FC8A981E2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312F4-BB86-4F9B-A1B7-3146FA1D2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0CE48-984A-49F2-87AE-B8248EFE9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2C363-BB22-46A0-8CE9-717012949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B8401-374C-48BA-91A7-E26337397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9B54-81AE-48F0-8C7C-4A355A460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0D968-A0AE-4078-960F-002E5D58C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06E52-2A18-4482-B58E-42BA40390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91E56-34CC-4788-A29F-3BBF20CA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A05BB-EB92-4707-8E21-43D0B63CF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F6F25-6FFD-4555-8B3A-D2C1D0ED3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3A1F1-3824-4221-AAE9-63AD6B957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EA5F48-3743-4846-9329-0F9234DC43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038FD-0EE9-48FB-ABD6-C969553E4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A8498-A7AA-4601-8F00-D5B12519B5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2702F-C78E-4C56-AC17-52B4B703F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6FF93-AB95-4287-8D1C-EF85C81DD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3C4C5-0800-40E2-B464-A6FEDCABE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96BCF-65A0-4DB2-A86C-8BB3C9CE4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0646F-0300-47C8-ADE9-E3F892A54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7423F-04E7-4827-B09E-C3CA87D09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85F70-C550-483F-B82E-52CB8482E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9B164-AAEF-4AC9-B31B-9B1A3A163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BA117-842E-4DF6-B94A-3CACFDD790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4EE30-D34E-4D5A-8AF3-F3C2D0E738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1BF5C-ABC6-4B4E-AB3F-50DB181F5E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7B9CC-24CA-41EB-AEA0-487F1B2B4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40AE5-586A-4140-94A3-BDE74367D4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9C302-66CF-4BDB-93BA-1200CA68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934A1-E388-421F-9362-0AE80E441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E9138-36CA-40CC-855D-95F1737C6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052D2-C467-4384-A38E-A0CD48468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0529C-61A9-427B-993F-F67E2565B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1D7FC-D4F5-4CA8-9EC0-1845B3526E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878B3-154C-4084-9541-A8FE3D9A7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BF316-B391-4B7D-B33A-7E3D994D3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A7DB2B-36B0-4313-8566-3BF821091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2904F7-326C-489A-BC2A-44486891ED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9C83C7-BDF2-4DC5-B66D-C7E7DFA1AA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140B-7F7D-4439-8A77-67BD18662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C95C3-5AC8-4884-B4DF-293C712FB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6F905E-FC87-4698-92C3-A62CE2A221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59569-88A3-4110-AD0F-7FBD605C9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045167-B3B0-4E2F-8B24-7C9902C82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E47B8-CDFE-42CE-AEA9-DEEDF3E05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3EAAA1-E8EA-4485-8965-81360F6C5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75224-01C6-48F3-BDB0-41CF8D2C1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CD2F8-763B-4E2B-A146-AAB382604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0662B-5C0E-4ED6-AE7F-51CC8CAB2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890EBE-DB36-44CB-8874-5A4DAE5499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E9F1-6453-43CC-BE23-6FCC8BDB2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73D4CD-B3DB-43D5-A762-1C801A8903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3811C-CD10-4C0A-BF73-BB39718013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490FE2-97AC-4D42-98B4-1957C2E14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40BB7-0004-41CA-B4DE-4AB21FFC7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5AED8A-F65E-4137-A802-FEC948C9B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8E8DF-0823-4464-8D67-B05CA54B9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5A31FB-7A62-411D-8E5A-81BF4CD74B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FCF1C-CD32-4A23-8E79-0AA56DE64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8D6A6-576D-4185-ADBB-65F95007C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E80529-8D5F-4B14-9926-0F57AE57E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2A2E-7EA9-4472-8C06-57292822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460B2-33AF-4E32-93DB-55A95F49A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951836-1200-41A4-8054-AD8EDA4F02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C2D46E-1821-4CF7-8AC4-574FA0684E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F2F230-B9C5-45CB-B44D-CD0650E941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83015A-2A9B-4AB1-B7CA-07486FB64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3CEE9-79ED-4997-AE01-C6550C32E8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F8FDA0-FD4E-4DE5-B849-275E7EA82E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CAF185-E9F5-4AB7-8301-0AE79C3652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CEA4C-4A69-42ED-869C-20A84E4E7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EE0A95-D5D2-4A54-9446-F23A8D725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7E84-C4FF-45BF-8CA8-CA514FC4B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DC9EFD-1F8F-40D7-A1F5-3B103469F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8A6FB-DEC0-48D7-A53E-41A6E8C6B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EDBFCE-218A-4807-B49C-63657A7ADD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C00D9C-F92F-4A43-987C-CBFDCEA69C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55B9DC-3565-4228-8F7C-85D666EC8C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604176-05B8-414D-A044-01E87F8787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ADEACE-AE79-42EE-BE51-07999B8D79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43376-B449-4E2D-9BD2-841C21C517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49A22-9A65-4104-8020-39F19AF271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EB481-13FE-464E-BF17-387DEC2AFF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62CFD-B433-442E-940A-DF9CAE10B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6B5061-4F08-4336-B1EF-47133F1530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EA44C-C3CB-4C90-AA83-1FCB7BF81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E10B0-966C-460D-9545-0FB06DB75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1E681-1459-4EBF-88B0-99460C633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CD9AE4-A174-4B3D-98D8-1CF3D72975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D05828-6D06-4ACA-AB15-958422BE25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159326-9DD9-4DEC-BA95-2AA8D92C61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7ED5C98-EED9-4A29-B22B-72887946BED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DB264B7-1A15-4344-9E5E-EC84DEFE7E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F2061B2-22B1-4F96-B148-96D5BE5FCFA7}"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B3A2-01C4-4A0A-AE49-233F6617FF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7FD5-F3E1-4EE6-8BB3-F56D4D602FC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AB4C-4B14-49C6-8E85-B0038EF2E3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E500-BA28-45DC-A2F6-1F4575EBEE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0532-725F-428E-9AA9-7628A1F73A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F241-6D3C-4599-AC0A-3569BB66FB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80F5-7B43-48AB-8877-BF1766A803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66A0-5616-42B8-98C9-39237DD4B4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31BF-8918-425F-B407-AD8AC214E6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