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55C2-1645-454F-90EB-1190D2B4A22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438A-4CE8-4AB4-8F77-F45A175688B7}" type="datetime">
              <a:rPr b="0" lang="en-US" sz="1200" spc="-1" strike="noStrike">
                <a:solidFill>
                  <a:srgbClr val="000000"/>
                </a:solidFill>
                <a:latin typeface="Garamond"/>
              </a:rPr>
              <a:t>07/31/26</a:t>
            </a:fld>
            <a:r>
              <a:rPr b="0" lang="en-US" sz="1200" spc="-1" strike="noStrike">
                <a:solidFill>
                  <a:srgbClr val="000000"/>
                </a:solidFill>
                <a:latin typeface="Garamond"/>
              </a:rPr>
              <a:t> </a:t>
            </a:r>
            <a:fld id="{5A84760F-E707-4728-8851-D65333783EC8}" type="datetime10">
              <a:rPr b="0" lang="en-US" sz="1200" spc="-1" strike="noStrike">
                <a:solidFill>
                  <a:srgbClr val="000000"/>
                </a:solidFill>
                <a:latin typeface="Garamond"/>
              </a:rPr>
              <a:t>07:54</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92EF-9063-421F-918B-D6E169ACC4F4}"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185DB-6483-4DEF-AE3E-99716CE25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EC7A-D480-48E3-ADBF-9D8D11D9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DC0DAC1-249B-4810-BDFC-7E33D2922B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47DCDE-A55C-4215-BE7E-F3458AB4A8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DD2323F-5CD5-49EB-817D-898AC0EA4F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B629BA-1EC8-4B38-99F7-3DAAB0FEE4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6C343A-A267-4934-AC78-5AAFA7A972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9187D1-430A-40FB-AA66-33DF03E9E2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4E2B46-F7C9-4976-B5D5-527197A844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BEB72B7-1003-407D-9408-0A26597C2FD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BE9313-13CE-4530-971A-A2D0173DC00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C56DE-33AD-473E-B811-7E4153F0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F9335-F314-4982-8C0E-D5347780A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BDD71-F101-4E80-A1D1-ED3AD779E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6BE78-193A-4292-AED4-AEA9DD758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35332-941C-4920-BC36-D62AAA21F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8B713-4A50-4EDA-A2E2-DD63FDAC3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95995-C65F-4ED5-9703-59AED0D5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DF4EE-9101-4040-886A-EC3E9AC0D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5E512-E1E6-4CB1-B74C-53547230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3453-8D2D-40A5-ADB4-D8173B6E3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BBEA5-B068-4067-BFC6-F85F430AE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7CDA2-4C72-45FE-83AF-75306DCA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B8101-C2F5-469F-8DF0-88E50A5A8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39CFC-7ABA-4B15-B3E7-A5617EB36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1D132-B5F6-4E74-8075-9963ADB4C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657FA-0765-45A7-8CC1-C750400D3A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58448-C896-492A-8E0F-C65BDC41E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5EB57-09D9-4E0D-A9F0-2EBC45BEA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F8129-9FAE-4EE8-92DA-6C306C7CB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CB299-F18D-4FCC-BC21-73695B86A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23AE-72C9-4B0F-BE0C-AFB15628C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BEB29-5ABB-4C2B-9AB8-8E0209F4E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891AD-71DC-4573-B8E5-43D5C574F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80866-745C-4CDD-93AD-AB3913749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E405D-5A0E-4871-BA34-B7344E30C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82C52-E5E9-4A6C-B341-E4F774612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6C65C-BF79-480C-A7C8-8CF784C4D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6F754-7691-4832-95CC-E1EFE4FAF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DDCFE2-3BEA-4B55-AF36-44D65BC6A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92550-8A99-40E8-ADE9-9FC3E5428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34C9D-7BC4-4073-8661-31284371E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38774-4ED1-4058-AB42-FB732929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0588E-5E86-4B61-9F74-716425658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2338E-6EDA-4BA4-AD9E-287C51842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7DEAD-8BAA-4B3C-985E-051EA2D62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FC7CA-C1CE-4C9A-BCC6-3B5D3B3E3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84FE0-F1AD-434C-81C9-072C76A88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DC5F6-3FD8-4759-A951-A9BD80B0C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88C8B-DD6E-48A9-B010-C470FF63C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138B54-B287-4AB0-AA77-FFA5E9D61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F2D73-0598-491C-83AE-2DA9A15707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92018D-F88C-4E93-A745-20B9DD57F4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9ED60-E221-4D67-8437-EACBD2DD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6789A-EDA7-4EAD-B92F-16A48A945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7A132-1688-4B15-BBE6-CDB37B393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B8AA9-E5F5-46DD-8FDB-160D2CD90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6F252-17D4-48F6-843E-63B3FA1F6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52228-6B7A-4F04-80D4-A374577D2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154C8-F0DC-4006-AD11-2AC1D9B1D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138FA-ECA8-4B8A-BBC9-30E41BC56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0E15F-0480-49AF-AF90-44C6A18A5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A01550-86DE-4775-ABA7-0A20889C0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66E1A6-3994-4C23-A1DE-80A3E012E3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20F9-8714-4272-A383-9A8B92943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A4DFB-6C60-4D0E-AA4A-4412AB9EBD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DE0F2F-25C2-4485-8407-67D8120AF9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88103-DECC-440B-954D-58A0EC22F5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37710-5603-4D27-BDA6-826EC9BC4F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1B979-B576-4D2E-8519-5B65A5D94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63729-7B1E-4E64-A64C-B66B39D7A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AF23A-5BEF-41CC-9DF1-C8E9B0F0CF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5E668-0811-40C5-8EDF-0477143DB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BFC5F-46F2-4E62-93BC-91D293EDF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DE157-38E6-4AE1-A156-1DD0F0C2D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8C6E-2C66-429F-AE5D-4D461091B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21424-93A0-4131-9BF5-1EAB23C6A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BB77C-FCEE-46C6-9FFC-B00F8EEBA8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C3FB64-2273-4AD1-BD06-BADCD744C6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5AD17-1193-496B-BD33-E3523BEC4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B095BC-9010-47E1-A045-366A2CC11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850592-83C8-4EC8-A18E-E85FCCB50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041223-5661-43B1-8D9D-FC630FE6D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67CCB9-429E-4159-AD41-50E301F50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8F2D9-C229-4920-88D7-C17FB98FB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6A850-A1FD-440F-A2F2-DA8A7B166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AAF1-658A-428A-AAF0-3E45F641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8273A-0E81-414A-8064-A9127B622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E9E0E-A922-4AA9-988C-74C3F1367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B94E37-2799-44D0-BB66-97C5F421B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6E440A-1B35-40EE-B014-C5E2B64B6A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440719-6174-4DAC-A3E2-083CB92ADE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5043E5-5C44-45DB-9857-E1FED66630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2C183A-554F-4B98-9DE5-E9D4716E9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CCE80-B41D-4E06-BC06-631F14210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B9AF9B-261C-44B4-896F-0751978AC9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613D1-B49B-454A-AD2C-A825CA8F3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D8C7-BD2B-4DD1-892F-0B57510D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512E72-4892-4F3B-80D6-66CD9EB074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38D14-3AAC-43D1-9AC7-59D0EA517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31640-BF5F-4E66-8111-D2A2A8472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52442-52D2-48A4-9528-2E50571D6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105C3-7F42-4161-AFA0-4E8F30AEA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86BB31-65E2-45A3-8A3B-6CB5235858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6A056F-BB50-4BFD-A2FE-7F21D2E53A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4E7C5B-499C-461B-AD9E-8A08C9F62C2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98693E-F918-4749-9CDC-8B7055B550A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F84F37-28F0-461A-863F-61B093F0BB1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E618-9220-4449-AAB4-F0157476DA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80A3-B835-47F3-ABDC-93EED58544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2B01-1FBF-4195-81B4-1ADF238878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D7BC-BD05-417B-9850-D11429B639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1E89-5901-43D2-A20D-951C7173BA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EE0C-8BBA-4B9A-9104-3C3019CD16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E104-D012-4CFA-BD56-4BA7A15A49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13B6-6C0A-4939-A0F2-F339F33F58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40DB-8FB5-47D0-AF32-5711C15DD9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