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DE4D-D9A5-4645-9CB8-133E55A1521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4DDA-1006-4D55-BE30-CEC98A58D5F1}" type="datetime">
              <a:rPr b="0" lang="en-US" sz="1200" spc="-1" strike="noStrike">
                <a:solidFill>
                  <a:srgbClr val="000000"/>
                </a:solidFill>
                <a:latin typeface="Garamond"/>
              </a:rPr>
              <a:t>07/29/26</a:t>
            </a:fld>
            <a:r>
              <a:rPr b="0" lang="en-US" sz="1200" spc="-1" strike="noStrike">
                <a:solidFill>
                  <a:srgbClr val="000000"/>
                </a:solidFill>
                <a:latin typeface="Garamond"/>
              </a:rPr>
              <a:t> </a:t>
            </a:r>
            <a:fld id="{A1037D6A-BEA5-439E-A2B9-2EC17B3512BF}" type="datetime10">
              <a:rPr b="0" lang="en-US" sz="1200" spc="-1" strike="noStrike">
                <a:solidFill>
                  <a:srgbClr val="000000"/>
                </a:solidFill>
                <a:latin typeface="Garamond"/>
              </a:rPr>
              <a:t>02:12</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9FDD-07A3-4DF8-B283-C30D3C0BFAF0}"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7B242-A7F9-4517-AAC2-8C3E81A47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BB404-CA13-4875-90DC-1C89DB10B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946837-9C80-4B33-9338-FC8B8C8DF0A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FA1FF1-A8A3-4F8C-A21C-75E9031BD7E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772E65-CDEB-4DD6-89D6-0137DEB7A37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F392F3-67B6-40F6-933F-C8CB70252FA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4ED3547-A721-4A28-9958-36F80888F3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06C566-F1E9-45B5-85BB-D3FFAF2A314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9396B0-CD61-40A1-834E-61A39E13DD2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6FB16A0-742C-473D-9F6E-488C28B8052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45859A8-68B9-4255-A543-7BB30FBDD46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46211-D5A5-4380-B7DE-5D3E8B0B5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59C14-4849-4BF4-94F3-A670A4412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8788A-20CF-49BE-AEC7-8DF0C2429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AD8E5-7E7E-40E9-B160-C2C5D611D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A003E-7927-4A43-ACE7-9CDC3A11F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01476-F089-4945-AA10-AB963AABB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A4C8A-F7A9-46EB-B777-EC50461B7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156A6-6108-4966-A1BA-0F9C3774E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7529-4110-423B-8370-7B54867BE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4469-365C-4A38-A793-456DF6198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88BB4-6A70-4357-9CD3-D4454BA17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030D-F88A-4FB9-9221-70EEB8D53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1D5A3-1A47-4D72-ADCD-8D165B0E7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FDD87-96BD-4808-81BF-B6EA77BD6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3BBEC-06FB-4A18-A6E6-E124C3DA9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A59FF9-D7CE-43DD-B0D3-AFEFFDA6E2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D0F48-91F7-460A-AFE7-940A86FF2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80CAC-C5F5-433E-AAE9-135CA985C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8EFC2-5D03-406A-9199-2BE723EE2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022519-DC8F-400F-AD18-BF4B11AE7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2B598-AD06-4AD5-845A-7F3F9BE7A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B007F2-5C08-49B1-BE6F-21DF22684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18348-C605-4B5F-862E-7779B6F4F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520D3-7A61-4376-8CF3-BB44615B3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FAC39-704C-4EC5-8A17-4FF34ED79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42916-107E-4144-9CBF-F89E4C100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7CF459-3B19-4E7C-BABF-CAAB5346C0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01BCF0-91A4-4E52-869C-68F35832B5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59C0B1-6AE5-4158-A610-CAFFDF3375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9CCF9-4770-4D5F-A686-A1455A6E2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A72460-FA78-4E05-B12D-DB1044356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AA37-F2B4-48B7-91E8-CFBBBFCA1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9E003-7E58-48BB-9645-BC0337797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8C3E4-8371-465D-A148-CC4A0F1A5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8FB3A-AD37-4F33-9587-0AD5BA45B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7F7A8-B9BF-4AFC-BAFE-1A306E096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B9913-1CCE-49F6-B99D-C498F0303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2A856-8CCF-41BE-9C57-FC0F27394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3CEF80-1F6A-45B5-B8C0-50BBC0605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C83016-BE9C-482B-B58E-77CF9533C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29A373-8386-4A94-BB53-E7791FDAB2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4BDF8C-47B0-419D-A6B9-BCF6067F64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2E499-ADA7-4182-8780-EF719B97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7BFEF-9308-4A48-8C48-E6F7F9012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190013-9674-4CE6-B3AF-D650BADBB6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5CF10A-7E34-4AF2-999E-229E1D8E4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46EFFF-625F-4620-810A-966C899EA5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F8609-92ED-4C24-A593-B1FE940D3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5F48E-4D7E-4393-B394-61D55F10C8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75F3C-94DD-43E6-8AB7-93B1847BB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8C5B1-D9EA-4936-A84C-8EEACC646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7BC2F0-E7B4-4EEA-9C48-25639A49C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F8ECBD-1F86-4554-8461-374BBE38A8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2939C-4B96-4797-8588-B3C56678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A1F866-A429-48CC-9D1B-CC9A206390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58405C-8D9D-49E7-86F2-CB4CB7E3F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48E553-4379-4C0F-8CE3-9F83879625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6D5B3A-7C88-4744-A14D-5D01530D7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8B387A-D5D3-44C7-B7BA-FC90C5E08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28EBD-7123-4E48-B387-8CE714BA11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848DD1-B024-4B15-AD6F-840E5910D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AD164-E956-4E16-A01F-69ED27C55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013CD-69CB-4C30-A3B6-FE32C69C3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FD368-1770-400F-B9CF-BC2A9E49FE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E1A5-43D3-43AB-BAD7-E737EDD1A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336953-4B30-4F6B-8101-D11B5BD68A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D33C1E-C065-4892-B0CA-B369A51B2E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3E008F-38AA-4A29-A1EF-387BE20754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76568C-1DD0-4C07-B6E9-AC9A95BEAB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D09CC-B8ED-4DE3-980E-C123F9F2F2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5E98C-DCB7-466F-97F0-CE44A6C7B5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3F5EC5-561B-45D3-828B-750D08DD0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6E6D91-2C32-4353-BE3B-9DF88CE841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612C4-0543-4860-AC07-C75FFF9AE9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3C46D-B629-40E6-AB63-6C8CDDB39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A4A9-0E98-47B0-A985-750BAC8E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0DE470-7DA0-4E35-B227-BDDE064A9A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3C49F-DF8E-4C82-A6BC-3C70B595B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ACB4E4-597D-4E7D-B560-0F7C0A653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C4B883-328B-4B14-9FED-FBE06726C6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EB15C4-A80D-44E6-B536-9E1FA1E891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B7CB54-07BF-4B2A-A639-1C531F5D1A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18972E-397B-4318-8F43-6FA432C94E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66658-F107-4A29-ABC1-0E96A3AC6E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0B3D01-2D17-44EA-A391-D55CC474DB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FD2792-84B8-4E3F-A83E-1071869476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ED23-3DDD-4330-BFC1-276B4AD1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EE31B-16E0-468B-8A30-752DAE42A0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5B31F-67BE-4E25-922F-654C6DA35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AAE8B-3EE9-4F27-81BB-07788E18A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5ED9B-B182-4EA9-B8ED-341567278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1088B-340F-4D2D-A470-1162A6715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007150-D6BA-4E3B-BC69-1B389991DE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52315C-C30A-44AC-B9F8-C35063748F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9875DD4-E5B0-4A07-893A-545D363E53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821BAA-9C49-4049-B45A-152906E97E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025F02-6C36-4B95-BDE5-3787CB2EFE23}"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41C9-13C3-4966-91A7-B581BA038C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F466-18F4-4826-957C-EB08962AFA9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DECE-7B7E-4663-9055-AC56FD5C68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2B91-5B40-4199-A341-3C4E369E46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C777-65AF-45DA-87C8-2DBC438485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5CE7-B14C-4D4F-9576-DFB12ED74B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C864-AA1D-48E3-AD5F-F9B494F815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9EEE-FCBE-4363-A1F6-D76FD63736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B3A5-1DE4-4F4F-B10C-5B5626DAC0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